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8AA6-25E6-49AE-A35E-E026B574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79A1-178B-4B63-A900-1B9F6DF3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1A25-933B-4443-84E5-EF18F22F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D7BE-C889-49F1-B0A9-935845DE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84D9-5053-4F1C-A4C3-23365349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BE90-2328-4CAF-86BF-3D6AAE95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A71-72CB-4318-8425-879A8831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B794-3519-4349-8122-510C1ECD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010B-B984-4FA1-B648-E2A3A36D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F9D7-8D2B-4D59-843B-86F914EC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B3B-C8CB-4A86-A02F-81C503C4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39D4-4C7D-4385-8541-877E2741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70F1-3AB0-4460-B760-52E50553C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167680" cy="1739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05120" y="2590920"/>
            <a:ext cx="4610160" cy="380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7560" y="25509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59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167680" cy="34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41520" y="695160"/>
            <a:ext cx="78609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2184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765972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240" y="2286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4967280" cy="406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66720" y="865080"/>
            <a:ext cx="781056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86276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0240" cy="939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133720" y="2057400"/>
            <a:ext cx="8380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1981080"/>
            <a:ext cx="9144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1981080"/>
            <a:ext cx="1143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23:14:18Z</dcterms:created>
  <dc:creator>Graham</dc:creator>
  <dc:description/>
  <dc:language>en-US</dc:language>
  <cp:lastModifiedBy>Graham</cp:lastModifiedBy>
  <dcterms:modified xsi:type="dcterms:W3CDTF">2011-10-22T23:30:53Z</dcterms:modified>
  <cp:revision>2</cp:revision>
  <dc:subject/>
  <dc:title>Slide 1</dc:title>
</cp:coreProperties>
</file>